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0F38F-B51A-42F5-B13C-6D7A42C7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839A7-B1D6-4341-B84F-F3A1F13C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4908C-8890-48AF-BE9D-276DEA44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00D5A-141E-4306-88B3-4B4A77B8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228E-638F-4E63-AA12-73D63B28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644B-4319-43DF-ACAE-29B686E8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A2DF-7E35-4E00-ACBF-ECB77FE1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00FF-C298-4E3B-8A16-9647ECF7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6F24-5A70-4E1F-9211-1A9FB05F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2433-E57A-4F6F-84A6-CFBBCF51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4297-F3B0-4F8E-B4EB-450403C0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BF322-D3F3-457C-901E-7360892F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B3BA-73E4-41B9-B64E-4529C715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E1F6-A3B5-46EC-A846-96D5C462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56AA-9B6F-4715-A4DE-7E8C6682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3991-D854-4F0B-BF6D-D051A63B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D290-14E0-4997-9CD6-568A5AC0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96AFE-61EC-4AB9-8383-D78EF599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D72E-DA1A-453A-8EBC-7D46D0F9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50A42-A07C-4641-AE0F-AC96D6BE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4DA80-A699-498E-AF4F-4D4A613A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AB339-04F9-4077-8F76-E1B010D6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6940-5EF7-45E5-BF38-C8F51A76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E940-8151-4708-81BE-9074A4A6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DF8C-4057-4F87-B7F8-D01BD2FC6716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335C-FB4A-4B32-A04A-598BA07A7A7C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7164360" y="44280"/>
            <a:ext cx="1800360" cy="1122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2008080" cy="1641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28ED-1822-4B95-BB1E-1FEF1EBB8299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5D20-B40F-432C-BED6-05ABD265CF02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mailto:firstname.lastname@deri.org" TargetMode="External"/><Relationship Id="rId3" Type="http://schemas.openxmlformats.org/officeDocument/2006/relationships/hyperlink" Target="mailto:firstname.lastname@deri.org" TargetMode="External"/><Relationship Id="rId4" Type="http://schemas.openxmlformats.org/officeDocument/2006/relationships/hyperlink" Target="http://www.linked2safety-project.eu/user/register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1628280"/>
            <a:ext cx="835164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Ensuring Patient Safety in Clinical Trials </a:t>
            </a:r>
            <a:br>
              <a:rPr sz="4000"/>
            </a:br>
            <a:r>
              <a:rPr b="0" lang="en-IE" sz="4400" spc="-1" strike="noStrike">
                <a:solidFill>
                  <a:srgbClr val="00446a"/>
                </a:solidFill>
                <a:latin typeface="Calibri"/>
              </a:rPr>
              <a:t>FP7 Project: Linked2Safety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11200" y="3476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Dr. Ratnesh Sahay, Dr. Ronan Fox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98989"/>
                </a:solidFill>
                <a:latin typeface="Calibri"/>
              </a:rPr>
              <a:t>DERI, NUIG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98989"/>
                </a:solidFill>
                <a:latin typeface="Calibri"/>
              </a:rPr>
              <a:t>Galway, Ierland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L2Slogo900x300with800dpi"/>
          <p:cNvPicPr/>
          <p:nvPr/>
        </p:nvPicPr>
        <p:blipFill>
          <a:blip r:embed="rId1"/>
          <a:stretch/>
        </p:blipFill>
        <p:spPr>
          <a:xfrm>
            <a:off x="2454120" y="222120"/>
            <a:ext cx="3773520" cy="12621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F218E-B370-45F1-B0BB-C07424AA6616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6440" y="344160"/>
            <a:ext cx="740556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Perturbation and Cell Suppression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109520" y="1773360"/>
            <a:ext cx="425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Origi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Table 9" descr=""/>
          <p:cNvPicPr/>
          <p:nvPr/>
        </p:nvPicPr>
        <p:blipFill>
          <a:blip r:embed="rId1"/>
          <a:stretch/>
        </p:blipFill>
        <p:spPr>
          <a:xfrm>
            <a:off x="6480" y="2530440"/>
            <a:ext cx="4406760" cy="2664000"/>
          </a:xfrm>
          <a:prstGeom prst="rect">
            <a:avLst/>
          </a:prstGeom>
          <a:ln w="0">
            <a:noFill/>
          </a:ln>
        </p:spPr>
      </p:pic>
      <p:pic>
        <p:nvPicPr>
          <p:cNvPr id="157" name="Table 4" descr=""/>
          <p:cNvPicPr/>
          <p:nvPr/>
        </p:nvPicPr>
        <p:blipFill>
          <a:blip r:embed="rId2"/>
          <a:stretch/>
        </p:blipFill>
        <p:spPr>
          <a:xfrm>
            <a:off x="4327560" y="2530440"/>
            <a:ext cx="4408560" cy="27432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4925880" y="1758960"/>
            <a:ext cx="317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Perturbation (+-1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Cell Suppression (&lt;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6427C-5B51-4E21-93E7-552C363F0CD4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1280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Linked2Safety – </a:t>
            </a: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Approach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779480" y="998640"/>
            <a:ext cx="4997520" cy="466236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27"/>
          <p:cNvGrpSpPr/>
          <p:nvPr/>
        </p:nvGrpSpPr>
        <p:grpSpPr>
          <a:xfrm>
            <a:off x="3168720" y="2362320"/>
            <a:ext cx="5651280" cy="2795400"/>
            <a:chOff x="3168720" y="2362320"/>
            <a:chExt cx="5651280" cy="2795400"/>
          </a:xfrm>
        </p:grpSpPr>
        <p:sp>
          <p:nvSpPr>
            <p:cNvPr id="164" name="Oval 5"/>
            <p:cNvSpPr/>
            <p:nvPr/>
          </p:nvSpPr>
          <p:spPr>
            <a:xfrm>
              <a:off x="3168720" y="2362320"/>
              <a:ext cx="2208240" cy="1982880"/>
            </a:xfrm>
            <a:prstGeom prst="ellipse">
              <a:avLst/>
            </a:prstGeom>
            <a:solidFill>
              <a:srgbClr val="4f81bd">
                <a:alpha val="18000"/>
              </a:srgbClr>
            </a:solidFill>
            <a:ln w="936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00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Shape 10"/>
            <p:cNvCxnSpPr>
              <a:stCxn id="164" idx="5"/>
              <a:endCxn id="166" idx="1"/>
            </p:cNvCxnSpPr>
            <p:nvPr/>
          </p:nvCxnSpPr>
          <p:spPr>
            <a:xfrm flipH="1" rot="16200000">
              <a:off x="5268600" y="3838320"/>
              <a:ext cx="888120" cy="1319760"/>
            </a:xfrm>
            <a:prstGeom prst="curved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66" name="Rounded Rectangle 11"/>
            <p:cNvSpPr/>
            <p:nvPr/>
          </p:nvSpPr>
          <p:spPr>
            <a:xfrm>
              <a:off x="6372360" y="4726080"/>
              <a:ext cx="2447640" cy="431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Linked Data Cub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8"/>
          <p:cNvGrpSpPr/>
          <p:nvPr/>
        </p:nvGrpSpPr>
        <p:grpSpPr>
          <a:xfrm>
            <a:off x="4935600" y="1628640"/>
            <a:ext cx="3740040" cy="1105200"/>
            <a:chOff x="4935600" y="1628640"/>
            <a:chExt cx="3740040" cy="1105200"/>
          </a:xfrm>
        </p:grpSpPr>
        <p:sp>
          <p:nvSpPr>
            <p:cNvPr id="168" name="Oval 6"/>
            <p:cNvSpPr/>
            <p:nvPr/>
          </p:nvSpPr>
          <p:spPr>
            <a:xfrm>
              <a:off x="4935600" y="2114640"/>
              <a:ext cx="757080" cy="619200"/>
            </a:xfrm>
            <a:prstGeom prst="ellipse">
              <a:avLst/>
            </a:prstGeom>
            <a:solidFill>
              <a:srgbClr val="122031">
                <a:alpha val="27000"/>
              </a:srgbClr>
            </a:solidFill>
            <a:ln w="936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00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Shape 13"/>
            <p:cNvCxnSpPr>
              <a:stCxn id="168" idx="7"/>
              <a:endCxn id="170" idx="1"/>
            </p:cNvCxnSpPr>
            <p:nvPr/>
          </p:nvCxnSpPr>
          <p:spPr>
            <a:xfrm flipH="1" flipV="1" rot="5400000">
              <a:off x="5763600" y="1660680"/>
              <a:ext cx="361080" cy="727560"/>
            </a:xfrm>
            <a:prstGeom prst="curved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70" name="Rounded Rectangle 15"/>
            <p:cNvSpPr/>
            <p:nvPr/>
          </p:nvSpPr>
          <p:spPr>
            <a:xfrm>
              <a:off x="6308640" y="1628640"/>
              <a:ext cx="2367000" cy="432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Semantic EHR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9"/>
          <p:cNvGrpSpPr/>
          <p:nvPr/>
        </p:nvGrpSpPr>
        <p:grpSpPr>
          <a:xfrm>
            <a:off x="468360" y="1700280"/>
            <a:ext cx="2833560" cy="2149560"/>
            <a:chOff x="468360" y="1700280"/>
            <a:chExt cx="2833560" cy="2149560"/>
          </a:xfrm>
        </p:grpSpPr>
        <p:sp>
          <p:nvSpPr>
            <p:cNvPr id="172" name="Oval 7"/>
            <p:cNvSpPr/>
            <p:nvPr/>
          </p:nvSpPr>
          <p:spPr>
            <a:xfrm>
              <a:off x="2158920" y="2857680"/>
              <a:ext cx="1143000" cy="992160"/>
            </a:xfrm>
            <a:prstGeom prst="ellipse">
              <a:avLst/>
            </a:prstGeom>
            <a:solidFill>
              <a:srgbClr val="c00000">
                <a:alpha val="37000"/>
              </a:srgbClr>
            </a:solidFill>
            <a:ln w="936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00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Shape 18"/>
            <p:cNvCxnSpPr>
              <a:stCxn id="172" idx="0"/>
              <a:endCxn id="174" idx="2"/>
            </p:cNvCxnSpPr>
            <p:nvPr/>
          </p:nvCxnSpPr>
          <p:spPr>
            <a:xfrm flipV="1" rot="16200000">
              <a:off x="1720440" y="1846800"/>
              <a:ext cx="726120" cy="1294560"/>
            </a:xfrm>
            <a:prstGeom prst="curvedConnector5">
              <a:avLst>
                <a:gd name="adj1" fmla="val 50000"/>
                <a:gd name="adj2" fmla="val 49986"/>
                <a:gd name="adj3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74" name="Rounded Rectangle 21"/>
            <p:cNvSpPr/>
            <p:nvPr/>
          </p:nvSpPr>
          <p:spPr>
            <a:xfrm>
              <a:off x="468360" y="1700280"/>
              <a:ext cx="1935000" cy="431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Policy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3729F-8A12-4997-B3DA-FFB8A5DB1071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1560" y="259920"/>
            <a:ext cx="7570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Semantic EHR Model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1447920" y="3860640"/>
            <a:ext cx="644832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2843280" y="2492280"/>
            <a:ext cx="557280" cy="5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CG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2357280" y="1484280"/>
            <a:ext cx="7318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B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Curved Connector 9"/>
          <p:cNvCxnSpPr>
            <a:endCxn id="179" idx="2"/>
          </p:cNvCxnSpPr>
          <p:nvPr/>
        </p:nvCxnSpPr>
        <p:spPr>
          <a:xfrm flipV="1" rot="16200000">
            <a:off x="2647440" y="2939040"/>
            <a:ext cx="1189800" cy="799200"/>
          </a:xfrm>
          <a:prstGeom prst="curvedConnector5">
            <a:avLst>
              <a:gd name="adj1" fmla="val 39376"/>
              <a:gd name="adj2" fmla="val 63226"/>
              <a:gd name="adj3" fmla="val 39376"/>
            </a:avLst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2" name="Shape 10"/>
          <p:cNvCxnSpPr>
            <a:stCxn id="179" idx="2"/>
            <a:endCxn id="180" idx="3"/>
          </p:cNvCxnSpPr>
          <p:nvPr/>
        </p:nvCxnSpPr>
        <p:spPr>
          <a:xfrm rot="10800000">
            <a:off x="2464560" y="1853640"/>
            <a:ext cx="378720" cy="891000"/>
          </a:xfrm>
          <a:prstGeom prst="curvedConnector2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3" name="Text Box 20"/>
          <p:cNvSpPr/>
          <p:nvPr/>
        </p:nvSpPr>
        <p:spPr>
          <a:xfrm>
            <a:off x="1979640" y="2257560"/>
            <a:ext cx="976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m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1979640" y="3274920"/>
            <a:ext cx="1068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m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5"/>
          <p:cNvSpPr/>
          <p:nvPr/>
        </p:nvSpPr>
        <p:spPr>
          <a:xfrm flipV="1">
            <a:off x="1116000" y="2781000"/>
            <a:ext cx="792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6"/>
          <p:cNvSpPr/>
          <p:nvPr/>
        </p:nvSpPr>
        <p:spPr>
          <a:xfrm rot="5400000">
            <a:off x="407520" y="4284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8"/>
          <p:cNvSpPr/>
          <p:nvPr/>
        </p:nvSpPr>
        <p:spPr>
          <a:xfrm>
            <a:off x="4129200" y="3892680"/>
            <a:ext cx="13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9"/>
          <p:cNvSpPr/>
          <p:nvPr/>
        </p:nvSpPr>
        <p:spPr>
          <a:xfrm>
            <a:off x="1116000" y="156672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6"/>
          <p:cNvSpPr/>
          <p:nvPr/>
        </p:nvSpPr>
        <p:spPr>
          <a:xfrm>
            <a:off x="1581120" y="4365720"/>
            <a:ext cx="16621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 Black"/>
              </a:rPr>
              <a:t>CHU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Psychiatr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Adverse Ev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9"/>
          <p:cNvSpPr/>
          <p:nvPr/>
        </p:nvSpPr>
        <p:spPr>
          <a:xfrm>
            <a:off x="3308400" y="4365720"/>
            <a:ext cx="152856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 Black"/>
              </a:rPr>
              <a:t>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Breast Canc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Diabet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Neur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Adverse Event (AE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0"/>
          <p:cNvSpPr/>
          <p:nvPr/>
        </p:nvSpPr>
        <p:spPr>
          <a:xfrm>
            <a:off x="5048280" y="4149720"/>
            <a:ext cx="226044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 Black"/>
              </a:rPr>
              <a:t>ZEIN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Adverse Event (AE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Concomitant Medication (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Respirator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8"/>
          <p:cNvSpPr/>
          <p:nvPr/>
        </p:nvSpPr>
        <p:spPr>
          <a:xfrm rot="16200000">
            <a:off x="509040" y="18082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62"/>
          <p:cNvGrpSpPr/>
          <p:nvPr/>
        </p:nvGrpSpPr>
        <p:grpSpPr>
          <a:xfrm>
            <a:off x="3089160" y="1484280"/>
            <a:ext cx="5946840" cy="580680"/>
            <a:chOff x="3089160" y="1484280"/>
            <a:chExt cx="5946840" cy="580680"/>
          </a:xfrm>
        </p:grpSpPr>
        <p:sp>
          <p:nvSpPr>
            <p:cNvPr id="194" name="Text Box 20"/>
            <p:cNvSpPr/>
            <p:nvPr/>
          </p:nvSpPr>
          <p:spPr>
            <a:xfrm>
              <a:off x="5114880" y="1484280"/>
              <a:ext cx="392112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UMLS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,</a:t>
              </a: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 OBO Found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(Basic Formal Ontolog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Shape 207"/>
            <p:cNvCxnSpPr>
              <a:stCxn id="180" idx="6"/>
            </p:cNvCxnSpPr>
            <p:nvPr/>
          </p:nvCxnSpPr>
          <p:spPr>
            <a:xfrm>
              <a:off x="3089160" y="1701720"/>
              <a:ext cx="2812320" cy="216720"/>
            </a:xfrm>
            <a:prstGeom prst="curvedConnector5">
              <a:avLst>
                <a:gd name="adj1" fmla="val 49993"/>
                <a:gd name="adj2" fmla="val 49916"/>
                <a:gd name="adj3" fmla="val 49993"/>
              </a:avLst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96" name="Group 66"/>
          <p:cNvGrpSpPr/>
          <p:nvPr/>
        </p:nvGrpSpPr>
        <p:grpSpPr>
          <a:xfrm>
            <a:off x="3381120" y="2616120"/>
            <a:ext cx="5727960" cy="524160"/>
            <a:chOff x="3381120" y="2616120"/>
            <a:chExt cx="5727960" cy="524160"/>
          </a:xfrm>
        </p:grpSpPr>
        <p:sp>
          <p:nvSpPr>
            <p:cNvPr id="197" name="Text Box 20"/>
            <p:cNvSpPr/>
            <p:nvPr/>
          </p:nvSpPr>
          <p:spPr>
            <a:xfrm>
              <a:off x="3924360" y="2802960"/>
              <a:ext cx="5184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 </a:t>
              </a:r>
              <a:r>
                <a:rPr b="0" lang="en-IE" sz="1600" spc="-1" strike="noStrike">
                  <a:solidFill>
                    <a:srgbClr val="000000"/>
                  </a:solidFill>
                  <a:latin typeface="Book Antiqua"/>
                </a:rPr>
                <a:t>Advancing Clinico-Genomic Trials on Cancer (ACG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" name="Shape 207"/>
            <p:cNvCxnSpPr/>
            <p:nvPr/>
          </p:nvCxnSpPr>
          <p:spPr>
            <a:xfrm>
              <a:off x="3381120" y="2616120"/>
              <a:ext cx="1011960" cy="239040"/>
            </a:xfrm>
            <a:prstGeom prst="curvedConnector5">
              <a:avLst>
                <a:gd name="adj1" fmla="val 50000"/>
                <a:gd name="adj2" fmla="val 49924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99" name="Group 32"/>
          <p:cNvGrpSpPr/>
          <p:nvPr/>
        </p:nvGrpSpPr>
        <p:grpSpPr>
          <a:xfrm>
            <a:off x="1846440" y="4466520"/>
            <a:ext cx="4652640" cy="763200"/>
            <a:chOff x="1846440" y="4466520"/>
            <a:chExt cx="4652640" cy="763200"/>
          </a:xfrm>
        </p:grpSpPr>
        <p:sp>
          <p:nvSpPr>
            <p:cNvPr id="200" name="Oval 33"/>
            <p:cNvSpPr/>
            <p:nvPr/>
          </p:nvSpPr>
          <p:spPr>
            <a:xfrm>
              <a:off x="1846440" y="4653000"/>
              <a:ext cx="1063440" cy="288000"/>
            </a:xfrm>
            <a:prstGeom prst="ellipse">
              <a:avLst/>
            </a:prstGeom>
            <a:noFill/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34"/>
            <p:cNvSpPr/>
            <p:nvPr/>
          </p:nvSpPr>
          <p:spPr>
            <a:xfrm>
              <a:off x="5302800" y="4941000"/>
              <a:ext cx="1196280" cy="288000"/>
            </a:xfrm>
            <a:prstGeom prst="ellipse">
              <a:avLst/>
            </a:prstGeom>
            <a:noFill/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Curved Connector 35"/>
            <p:cNvCxnSpPr>
              <a:stCxn id="200" idx="7"/>
            </p:cNvCxnSpPr>
            <p:nvPr/>
          </p:nvCxnSpPr>
          <p:spPr>
            <a:xfrm flipH="1" rot="16200000">
              <a:off x="3894120" y="3554640"/>
              <a:ext cx="534960" cy="2815200"/>
            </a:xfrm>
            <a:prstGeom prst="curvedConnector5">
              <a:avLst>
                <a:gd name="adj1" fmla="val -42760"/>
                <a:gd name="adj2" fmla="val 26371"/>
                <a:gd name="adj3" fmla="val -42760"/>
              </a:avLst>
            </a:prstGeom>
            <a:ln w="9360">
              <a:solidFill>
                <a:srgbClr val="c0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203" name="Group 41"/>
          <p:cNvGrpSpPr/>
          <p:nvPr/>
        </p:nvGrpSpPr>
        <p:grpSpPr>
          <a:xfrm>
            <a:off x="1779480" y="4653000"/>
            <a:ext cx="4919760" cy="647280"/>
            <a:chOff x="1779480" y="4653000"/>
            <a:chExt cx="4919760" cy="647280"/>
          </a:xfrm>
        </p:grpSpPr>
        <p:sp>
          <p:nvSpPr>
            <p:cNvPr id="204" name="Oval 42"/>
            <p:cNvSpPr/>
            <p:nvPr/>
          </p:nvSpPr>
          <p:spPr>
            <a:xfrm>
              <a:off x="1779480" y="5012640"/>
              <a:ext cx="1130040" cy="287640"/>
            </a:xfrm>
            <a:prstGeom prst="ellipse">
              <a:avLst/>
            </a:prstGeom>
            <a:noFill/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4"/>
            <p:cNvSpPr/>
            <p:nvPr/>
          </p:nvSpPr>
          <p:spPr>
            <a:xfrm>
              <a:off x="5303160" y="4653000"/>
              <a:ext cx="1396080" cy="287640"/>
            </a:xfrm>
            <a:prstGeom prst="ellipse">
              <a:avLst/>
            </a:prstGeom>
            <a:noFill/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Curved Connector 47"/>
            <p:cNvCxnSpPr>
              <a:endCxn id="205" idx="2"/>
            </p:cNvCxnSpPr>
            <p:nvPr/>
          </p:nvCxnSpPr>
          <p:spPr>
            <a:xfrm flipV="1">
              <a:off x="2842920" y="4796280"/>
              <a:ext cx="2460600" cy="504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c00000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207" name="Oval 51"/>
          <p:cNvSpPr/>
          <p:nvPr/>
        </p:nvSpPr>
        <p:spPr>
          <a:xfrm>
            <a:off x="3602160" y="5229360"/>
            <a:ext cx="1330200" cy="360360"/>
          </a:xfrm>
          <a:prstGeom prst="ellipse">
            <a:avLst/>
          </a:prstGeom>
          <a:noFill/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771640" y="4348080"/>
          <a:ext cx="4032360" cy="10969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Futura Md BT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Futura Md BT"/>
                        </a:rPr>
                        <a:t>1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Futura Md BT"/>
                        </a:rPr>
                        <a:t>Object 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Futura Md BT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Futura Md BT"/>
                        </a:rPr>
                        <a:t>Data 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Futura Md BT"/>
                        </a:rPr>
                        <a:t>5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09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63756-81C8-4D2C-822D-8F2E08E501C6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d97a3"/>
                                      </p:to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set>
                                      <p:cBhvr>
                                        <p:cTn id="1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287280"/>
            <a:ext cx="8785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Policy-Based User Restricted Resource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grpSp>
        <p:nvGrpSpPr>
          <p:cNvPr id="212" name="Group 96"/>
          <p:cNvGrpSpPr/>
          <p:nvPr/>
        </p:nvGrpSpPr>
        <p:grpSpPr>
          <a:xfrm>
            <a:off x="468360" y="1376280"/>
            <a:ext cx="3672000" cy="2097000"/>
            <a:chOff x="468360" y="1376280"/>
            <a:chExt cx="3672000" cy="2097000"/>
          </a:xfrm>
        </p:grpSpPr>
        <p:sp>
          <p:nvSpPr>
            <p:cNvPr id="213" name="Oval 5"/>
            <p:cNvSpPr/>
            <p:nvPr/>
          </p:nvSpPr>
          <p:spPr>
            <a:xfrm>
              <a:off x="684000" y="159192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8"/>
            <p:cNvSpPr/>
            <p:nvPr/>
          </p:nvSpPr>
          <p:spPr>
            <a:xfrm>
              <a:off x="2124000" y="159192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Straight Arrow Connector 10"/>
            <p:cNvCxnSpPr>
              <a:stCxn id="213" idx="6"/>
              <a:endCxn id="214" idx="2"/>
            </p:cNvCxnSpPr>
            <p:nvPr/>
          </p:nvCxnSpPr>
          <p:spPr>
            <a:xfrm>
              <a:off x="1331640" y="1771920"/>
              <a:ext cx="792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6" name="Oval 15"/>
            <p:cNvSpPr/>
            <p:nvPr/>
          </p:nvSpPr>
          <p:spPr>
            <a:xfrm>
              <a:off x="1475640" y="1412280"/>
              <a:ext cx="648000" cy="360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18"/>
            <p:cNvGrpSpPr/>
            <p:nvPr/>
          </p:nvGrpSpPr>
          <p:grpSpPr>
            <a:xfrm>
              <a:off x="2684520" y="1880280"/>
              <a:ext cx="1139760" cy="1170720"/>
              <a:chOff x="2684520" y="1880280"/>
              <a:chExt cx="1139760" cy="1170720"/>
            </a:xfrm>
          </p:grpSpPr>
          <p:grpSp>
            <p:nvGrpSpPr>
              <p:cNvPr id="218" name="Group 13"/>
              <p:cNvGrpSpPr/>
              <p:nvPr/>
            </p:nvGrpSpPr>
            <p:grpSpPr>
              <a:xfrm>
                <a:off x="2684520" y="1897920"/>
                <a:ext cx="1139760" cy="1153080"/>
                <a:chOff x="2684520" y="1897920"/>
                <a:chExt cx="1139760" cy="1153080"/>
              </a:xfrm>
            </p:grpSpPr>
            <p:sp>
              <p:nvSpPr>
                <p:cNvPr id="219" name="Oval 11"/>
                <p:cNvSpPr/>
                <p:nvPr/>
              </p:nvSpPr>
              <p:spPr>
                <a:xfrm rot="2721600">
                  <a:off x="3142080" y="2512800"/>
                  <a:ext cx="650880" cy="36000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R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0" name="Straight Arrow Connector 12"/>
                <p:cNvCxnSpPr>
                  <a:endCxn id="219" idx="2"/>
                </p:cNvCxnSpPr>
                <p:nvPr/>
              </p:nvCxnSpPr>
              <p:spPr>
                <a:xfrm>
                  <a:off x="2684520" y="1897920"/>
                  <a:ext cx="558360" cy="566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221" name="Oval 17"/>
              <p:cNvSpPr/>
              <p:nvPr/>
            </p:nvSpPr>
            <p:spPr>
              <a:xfrm>
                <a:off x="2772000" y="1880280"/>
                <a:ext cx="64800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9"/>
            <p:cNvGrpSpPr/>
            <p:nvPr/>
          </p:nvGrpSpPr>
          <p:grpSpPr>
            <a:xfrm>
              <a:off x="1065600" y="1961280"/>
              <a:ext cx="1138680" cy="1170720"/>
              <a:chOff x="1065600" y="1961280"/>
              <a:chExt cx="1138680" cy="1170720"/>
            </a:xfrm>
          </p:grpSpPr>
          <p:grpSp>
            <p:nvGrpSpPr>
              <p:cNvPr id="223" name="Group 13"/>
              <p:cNvGrpSpPr/>
              <p:nvPr/>
            </p:nvGrpSpPr>
            <p:grpSpPr>
              <a:xfrm>
                <a:off x="1065600" y="1977480"/>
                <a:ext cx="1138680" cy="1154520"/>
                <a:chOff x="1065600" y="1977480"/>
                <a:chExt cx="1138680" cy="1154520"/>
              </a:xfrm>
            </p:grpSpPr>
            <p:sp>
              <p:nvSpPr>
                <p:cNvPr id="224" name="Oval 22"/>
                <p:cNvSpPr/>
                <p:nvPr/>
              </p:nvSpPr>
              <p:spPr>
                <a:xfrm rot="2721600">
                  <a:off x="1523160" y="2594520"/>
                  <a:ext cx="649440" cy="36000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R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5" name="Straight Arrow Connector 23"/>
                <p:cNvCxnSpPr>
                  <a:endCxn id="224" idx="2"/>
                </p:cNvCxnSpPr>
                <p:nvPr/>
              </p:nvCxnSpPr>
              <p:spPr>
                <a:xfrm>
                  <a:off x="1065600" y="1977480"/>
                  <a:ext cx="558360" cy="566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226" name="Oval 21"/>
              <p:cNvSpPr/>
              <p:nvPr/>
            </p:nvSpPr>
            <p:spPr>
              <a:xfrm>
                <a:off x="1151640" y="1961280"/>
                <a:ext cx="64800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40"/>
            <p:cNvGrpSpPr/>
            <p:nvPr/>
          </p:nvGrpSpPr>
          <p:grpSpPr>
            <a:xfrm>
              <a:off x="730440" y="1928880"/>
              <a:ext cx="738000" cy="1450800"/>
              <a:chOff x="730440" y="1928880"/>
              <a:chExt cx="738000" cy="1450800"/>
            </a:xfrm>
          </p:grpSpPr>
          <p:grpSp>
            <p:nvGrpSpPr>
              <p:cNvPr id="228" name="Group 13"/>
              <p:cNvGrpSpPr/>
              <p:nvPr/>
            </p:nvGrpSpPr>
            <p:grpSpPr>
              <a:xfrm>
                <a:off x="812160" y="1928880"/>
                <a:ext cx="467640" cy="1450800"/>
                <a:chOff x="812160" y="1928880"/>
                <a:chExt cx="467640" cy="1450800"/>
              </a:xfrm>
            </p:grpSpPr>
            <p:sp>
              <p:nvSpPr>
                <p:cNvPr id="229" name="Oval 43"/>
                <p:cNvSpPr/>
                <p:nvPr/>
              </p:nvSpPr>
              <p:spPr>
                <a:xfrm rot="4799400">
                  <a:off x="720720" y="2847960"/>
                  <a:ext cx="650520" cy="36000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R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30" name="Straight Arrow Connector 44"/>
                <p:cNvCxnSpPr>
                  <a:endCxn id="229" idx="2"/>
                </p:cNvCxnSpPr>
                <p:nvPr/>
              </p:nvCxnSpPr>
              <p:spPr>
                <a:xfrm>
                  <a:off x="856080" y="1928880"/>
                  <a:ext cx="137520" cy="782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231" name="Oval 42"/>
              <p:cNvSpPr/>
              <p:nvPr/>
            </p:nvSpPr>
            <p:spPr>
              <a:xfrm rot="2077800">
                <a:off x="775440" y="2116080"/>
                <a:ext cx="64800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Rounded Rectangle 70"/>
            <p:cNvSpPr/>
            <p:nvPr/>
          </p:nvSpPr>
          <p:spPr>
            <a:xfrm>
              <a:off x="468360" y="1376280"/>
              <a:ext cx="3672000" cy="2097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71"/>
            <p:cNvSpPr/>
            <p:nvPr/>
          </p:nvSpPr>
          <p:spPr>
            <a:xfrm>
              <a:off x="1617480" y="3060000"/>
              <a:ext cx="22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Data Cu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 flipV="1">
              <a:off x="4140360" y="215316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98"/>
          <p:cNvGrpSpPr/>
          <p:nvPr/>
        </p:nvGrpSpPr>
        <p:grpSpPr>
          <a:xfrm>
            <a:off x="4141800" y="1989000"/>
            <a:ext cx="1363680" cy="368280"/>
            <a:chOff x="4141800" y="1989000"/>
            <a:chExt cx="1363680" cy="368280"/>
          </a:xfrm>
        </p:grpSpPr>
        <p:sp>
          <p:nvSpPr>
            <p:cNvPr id="236" name="Line 20"/>
            <p:cNvSpPr/>
            <p:nvPr/>
          </p:nvSpPr>
          <p:spPr>
            <a:xfrm>
              <a:off x="4141800" y="215208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0"/>
            <p:cNvSpPr/>
            <p:nvPr/>
          </p:nvSpPr>
          <p:spPr>
            <a:xfrm>
              <a:off x="4975200" y="215208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76"/>
            <p:cNvGrpSpPr/>
            <p:nvPr/>
          </p:nvGrpSpPr>
          <p:grpSpPr>
            <a:xfrm>
              <a:off x="4659480" y="1989000"/>
              <a:ext cx="305280" cy="368280"/>
              <a:chOff x="4659480" y="1989000"/>
              <a:chExt cx="305280" cy="368280"/>
            </a:xfrm>
          </p:grpSpPr>
          <p:sp>
            <p:nvSpPr>
              <p:cNvPr id="239" name="Flowchart: Connector 80"/>
              <p:cNvSpPr/>
              <p:nvPr/>
            </p:nvSpPr>
            <p:spPr>
              <a:xfrm>
                <a:off x="4659480" y="2076120"/>
                <a:ext cx="303120" cy="233280"/>
              </a:xfrm>
              <a:prstGeom prst="flowChartConnector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81"/>
              <p:cNvSpPr/>
              <p:nvPr/>
            </p:nvSpPr>
            <p:spPr>
              <a:xfrm>
                <a:off x="4669560" y="1989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99"/>
          <p:cNvGrpSpPr/>
          <p:nvPr/>
        </p:nvGrpSpPr>
        <p:grpSpPr>
          <a:xfrm>
            <a:off x="4846680" y="2328840"/>
            <a:ext cx="804960" cy="1892520"/>
            <a:chOff x="4846680" y="2328840"/>
            <a:chExt cx="804960" cy="1892520"/>
          </a:xfrm>
        </p:grpSpPr>
        <p:sp>
          <p:nvSpPr>
            <p:cNvPr id="242" name="Line 20"/>
            <p:cNvSpPr/>
            <p:nvPr/>
          </p:nvSpPr>
          <p:spPr>
            <a:xfrm>
              <a:off x="4846680" y="2328840"/>
              <a:ext cx="12600" cy="18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" name="Straight Arrow Connector 86"/>
            <p:cNvCxnSpPr/>
            <p:nvPr/>
          </p:nvCxnSpPr>
          <p:spPr>
            <a:xfrm>
              <a:off x="4858920" y="4220640"/>
              <a:ext cx="793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44" name="Group 101"/>
          <p:cNvGrpSpPr/>
          <p:nvPr/>
        </p:nvGrpSpPr>
        <p:grpSpPr>
          <a:xfrm>
            <a:off x="539640" y="4005360"/>
            <a:ext cx="2880000" cy="863640"/>
            <a:chOff x="539640" y="4005360"/>
            <a:chExt cx="2880000" cy="863640"/>
          </a:xfrm>
        </p:grpSpPr>
        <p:sp>
          <p:nvSpPr>
            <p:cNvPr id="245" name="Oval 62"/>
            <p:cNvSpPr/>
            <p:nvPr/>
          </p:nvSpPr>
          <p:spPr>
            <a:xfrm>
              <a:off x="900000" y="418464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63"/>
            <p:cNvSpPr/>
            <p:nvPr/>
          </p:nvSpPr>
          <p:spPr>
            <a:xfrm>
              <a:off x="2340000" y="418464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" name="Straight Arrow Connector 64"/>
            <p:cNvCxnSpPr>
              <a:stCxn id="245" idx="6"/>
              <a:endCxn id="246" idx="2"/>
            </p:cNvCxnSpPr>
            <p:nvPr/>
          </p:nvCxnSpPr>
          <p:spPr>
            <a:xfrm>
              <a:off x="1547640" y="4364640"/>
              <a:ext cx="792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48" name="Oval 65"/>
            <p:cNvSpPr/>
            <p:nvPr/>
          </p:nvSpPr>
          <p:spPr>
            <a:xfrm>
              <a:off x="1691640" y="4005360"/>
              <a:ext cx="648000" cy="359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ounded Rectangle 89"/>
            <p:cNvSpPr/>
            <p:nvPr/>
          </p:nvSpPr>
          <p:spPr>
            <a:xfrm>
              <a:off x="539640" y="4005360"/>
              <a:ext cx="2880000" cy="863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90"/>
            <p:cNvSpPr/>
            <p:nvPr/>
          </p:nvSpPr>
          <p:spPr>
            <a:xfrm>
              <a:off x="1567800" y="4530600"/>
              <a:ext cx="76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02"/>
          <p:cNvGrpSpPr/>
          <p:nvPr/>
        </p:nvGrpSpPr>
        <p:grpSpPr>
          <a:xfrm>
            <a:off x="990360" y="4868640"/>
            <a:ext cx="5781600" cy="1058040"/>
            <a:chOff x="990360" y="4868640"/>
            <a:chExt cx="5781600" cy="1058040"/>
          </a:xfrm>
        </p:grpSpPr>
        <p:sp>
          <p:nvSpPr>
            <p:cNvPr id="252" name="Oval 66"/>
            <p:cNvSpPr/>
            <p:nvPr/>
          </p:nvSpPr>
          <p:spPr>
            <a:xfrm>
              <a:off x="3132360" y="522936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67"/>
            <p:cNvSpPr/>
            <p:nvPr/>
          </p:nvSpPr>
          <p:spPr>
            <a:xfrm>
              <a:off x="4572000" y="5229360"/>
              <a:ext cx="64908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4" name="Straight Arrow Connector 68"/>
            <p:cNvCxnSpPr>
              <a:stCxn id="252" idx="6"/>
              <a:endCxn id="253" idx="2"/>
            </p:cNvCxnSpPr>
            <p:nvPr/>
          </p:nvCxnSpPr>
          <p:spPr>
            <a:xfrm>
              <a:off x="3780720" y="5408640"/>
              <a:ext cx="792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55" name="Oval 69"/>
            <p:cNvSpPr/>
            <p:nvPr/>
          </p:nvSpPr>
          <p:spPr>
            <a:xfrm>
              <a:off x="3924720" y="5049000"/>
              <a:ext cx="648000" cy="360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ounded Rectangle 87"/>
            <p:cNvSpPr/>
            <p:nvPr/>
          </p:nvSpPr>
          <p:spPr>
            <a:xfrm>
              <a:off x="2771640" y="4976640"/>
              <a:ext cx="2881440" cy="863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88"/>
            <p:cNvSpPr/>
            <p:nvPr/>
          </p:nvSpPr>
          <p:spPr>
            <a:xfrm>
              <a:off x="3727080" y="55893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8" name="Straight Arrow Connector 92"/>
            <p:cNvCxnSpPr>
              <a:endCxn id="256" idx="3"/>
            </p:cNvCxnSpPr>
            <p:nvPr/>
          </p:nvCxnSpPr>
          <p:spPr>
            <a:xfrm flipH="1">
              <a:off x="5652360" y="5157000"/>
              <a:ext cx="1119960" cy="25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59" name="Straight Arrow Connector 94"/>
            <p:cNvCxnSpPr/>
            <p:nvPr/>
          </p:nvCxnSpPr>
          <p:spPr>
            <a:xfrm>
              <a:off x="990360" y="4868640"/>
              <a:ext cx="1782360" cy="72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60" name="Group 100"/>
          <p:cNvGrpSpPr/>
          <p:nvPr/>
        </p:nvGrpSpPr>
        <p:grpSpPr>
          <a:xfrm>
            <a:off x="5651640" y="3500280"/>
            <a:ext cx="2881080" cy="1657440"/>
            <a:chOff x="5651640" y="3500280"/>
            <a:chExt cx="2881080" cy="1657440"/>
          </a:xfrm>
        </p:grpSpPr>
        <p:sp>
          <p:nvSpPr>
            <p:cNvPr id="261" name="Oval 45"/>
            <p:cNvSpPr/>
            <p:nvPr/>
          </p:nvSpPr>
          <p:spPr>
            <a:xfrm>
              <a:off x="6083280" y="3868560"/>
              <a:ext cx="64908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46"/>
            <p:cNvSpPr/>
            <p:nvPr/>
          </p:nvSpPr>
          <p:spPr>
            <a:xfrm>
              <a:off x="7524720" y="386856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3" name="Straight Arrow Connector 47"/>
            <p:cNvCxnSpPr>
              <a:stCxn id="261" idx="6"/>
              <a:endCxn id="262" idx="2"/>
            </p:cNvCxnSpPr>
            <p:nvPr/>
          </p:nvCxnSpPr>
          <p:spPr>
            <a:xfrm>
              <a:off x="6731640" y="4048200"/>
              <a:ext cx="793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264" name="Group 49"/>
            <p:cNvGrpSpPr/>
            <p:nvPr/>
          </p:nvGrpSpPr>
          <p:grpSpPr>
            <a:xfrm>
              <a:off x="6615720" y="3982680"/>
              <a:ext cx="1278000" cy="1174680"/>
              <a:chOff x="6615720" y="3982680"/>
              <a:chExt cx="1278000" cy="1174680"/>
            </a:xfrm>
          </p:grpSpPr>
          <p:sp>
            <p:nvSpPr>
              <p:cNvPr id="265" name="Oval 51"/>
              <p:cNvSpPr/>
              <p:nvPr/>
            </p:nvSpPr>
            <p:spPr>
              <a:xfrm rot="2126400">
                <a:off x="7199280" y="4641840"/>
                <a:ext cx="649800" cy="360360"/>
              </a:xfrm>
              <a:prstGeom prst="ellipse">
                <a:avLst/>
              </a:prstGeom>
              <a:noFill/>
              <a:ln w="2232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R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6" name="Straight Arrow Connector 52"/>
              <p:cNvCxnSpPr>
                <a:endCxn id="265" idx="2"/>
              </p:cNvCxnSpPr>
              <p:nvPr/>
            </p:nvCxnSpPr>
            <p:spPr>
              <a:xfrm>
                <a:off x="6615720" y="4175280"/>
                <a:ext cx="646200" cy="46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67" name="Oval 53"/>
              <p:cNvSpPr/>
              <p:nvPr/>
            </p:nvSpPr>
            <p:spPr>
              <a:xfrm rot="2126400">
                <a:off x="6676200" y="4137120"/>
                <a:ext cx="64872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Rounded Rectangle 74"/>
            <p:cNvSpPr/>
            <p:nvPr/>
          </p:nvSpPr>
          <p:spPr>
            <a:xfrm>
              <a:off x="5651640" y="3500280"/>
              <a:ext cx="2881080" cy="1657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75"/>
            <p:cNvSpPr/>
            <p:nvPr/>
          </p:nvSpPr>
          <p:spPr>
            <a:xfrm>
              <a:off x="5837760" y="468000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95"/>
            <p:cNvSpPr/>
            <p:nvPr/>
          </p:nvSpPr>
          <p:spPr>
            <a:xfrm>
              <a:off x="6804000" y="3716280"/>
              <a:ext cx="648000" cy="360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Oval 103"/>
          <p:cNvSpPr/>
          <p:nvPr/>
        </p:nvSpPr>
        <p:spPr>
          <a:xfrm>
            <a:off x="5845320" y="3451320"/>
            <a:ext cx="2614320" cy="1778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91"/>
          <p:cNvGrpSpPr/>
          <p:nvPr/>
        </p:nvGrpSpPr>
        <p:grpSpPr>
          <a:xfrm>
            <a:off x="5505480" y="1484280"/>
            <a:ext cx="2949480" cy="1649520"/>
            <a:chOff x="5505480" y="1484280"/>
            <a:chExt cx="2949480" cy="1649520"/>
          </a:xfrm>
        </p:grpSpPr>
        <p:grpSp>
          <p:nvGrpSpPr>
            <p:cNvPr id="273" name="Group 97"/>
            <p:cNvGrpSpPr/>
            <p:nvPr/>
          </p:nvGrpSpPr>
          <p:grpSpPr>
            <a:xfrm>
              <a:off x="5505480" y="1484280"/>
              <a:ext cx="2949480" cy="1649520"/>
              <a:chOff x="5505480" y="1484280"/>
              <a:chExt cx="2949480" cy="1649520"/>
            </a:xfrm>
          </p:grpSpPr>
          <p:sp>
            <p:nvSpPr>
              <p:cNvPr id="274" name="Oval 29"/>
              <p:cNvSpPr/>
              <p:nvPr/>
            </p:nvSpPr>
            <p:spPr>
              <a:xfrm>
                <a:off x="5867280" y="1989000"/>
                <a:ext cx="649080" cy="360360"/>
              </a:xfrm>
              <a:prstGeom prst="ellipse">
                <a:avLst/>
              </a:prstGeom>
              <a:noFill/>
              <a:ln w="2232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R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30"/>
              <p:cNvSpPr/>
              <p:nvPr/>
            </p:nvSpPr>
            <p:spPr>
              <a:xfrm>
                <a:off x="7308720" y="1989000"/>
                <a:ext cx="647640" cy="360360"/>
              </a:xfrm>
              <a:prstGeom prst="ellipse">
                <a:avLst/>
              </a:prstGeom>
              <a:noFill/>
              <a:ln w="2232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 </a:t>
                </a: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6" name="Straight Arrow Connector 31"/>
              <p:cNvCxnSpPr>
                <a:stCxn id="274" idx="6"/>
                <a:endCxn id="275" idx="2"/>
              </p:cNvCxnSpPr>
              <p:nvPr/>
            </p:nvCxnSpPr>
            <p:spPr>
              <a:xfrm>
                <a:off x="6516000" y="2168280"/>
                <a:ext cx="793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77" name="Oval 32"/>
              <p:cNvSpPr/>
              <p:nvPr/>
            </p:nvSpPr>
            <p:spPr>
              <a:xfrm>
                <a:off x="6516360" y="1880640"/>
                <a:ext cx="64800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Group 48"/>
              <p:cNvGrpSpPr/>
              <p:nvPr/>
            </p:nvGrpSpPr>
            <p:grpSpPr>
              <a:xfrm>
                <a:off x="5868000" y="2529360"/>
                <a:ext cx="2088720" cy="468360"/>
                <a:chOff x="5868000" y="2529360"/>
                <a:chExt cx="2088720" cy="468360"/>
              </a:xfrm>
            </p:grpSpPr>
            <p:sp>
              <p:nvSpPr>
                <p:cNvPr id="279" name="Oval 36"/>
                <p:cNvSpPr/>
                <p:nvPr/>
              </p:nvSpPr>
              <p:spPr>
                <a:xfrm>
                  <a:off x="5868000" y="2637000"/>
                  <a:ext cx="647640" cy="36072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#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37"/>
                <p:cNvSpPr/>
                <p:nvPr/>
              </p:nvSpPr>
              <p:spPr>
                <a:xfrm>
                  <a:off x="7309080" y="2637000"/>
                  <a:ext cx="647640" cy="36072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 </a:t>
                  </a: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#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81" name="Straight Arrow Connector 38"/>
                <p:cNvCxnSpPr>
                  <a:stCxn id="279" idx="6"/>
                  <a:endCxn id="280" idx="2"/>
                </p:cNvCxnSpPr>
                <p:nvPr/>
              </p:nvCxnSpPr>
              <p:spPr>
                <a:xfrm>
                  <a:off x="6516720" y="2817360"/>
                  <a:ext cx="792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282" name="Oval 39"/>
                <p:cNvSpPr/>
                <p:nvPr/>
              </p:nvSpPr>
              <p:spPr>
                <a:xfrm>
                  <a:off x="6588720" y="2529360"/>
                  <a:ext cx="648000" cy="360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P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Rounded Rectangle 72"/>
              <p:cNvSpPr/>
              <p:nvPr/>
            </p:nvSpPr>
            <p:spPr>
              <a:xfrm>
                <a:off x="5508360" y="1484280"/>
                <a:ext cx="2943360" cy="1649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Box 73"/>
              <p:cNvSpPr/>
              <p:nvPr/>
            </p:nvSpPr>
            <p:spPr>
              <a:xfrm rot="5400000">
                <a:off x="7513920" y="2192040"/>
                <a:ext cx="154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600" spc="-1" strike="noStrike">
                    <a:solidFill>
                      <a:srgbClr val="000000"/>
                    </a:solidFill>
                    <a:latin typeface="Arial"/>
                  </a:rPr>
                  <a:t>Access Polic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0"/>
              <p:cNvSpPr/>
              <p:nvPr/>
            </p:nvSpPr>
            <p:spPr>
              <a:xfrm>
                <a:off x="5505480" y="2154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Rectangle 1"/>
            <p:cNvSpPr/>
            <p:nvPr/>
          </p:nvSpPr>
          <p:spPr>
            <a:xfrm>
              <a:off x="7452720" y="16610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"/>
            <p:cNvSpPr/>
            <p:nvPr/>
          </p:nvSpPr>
          <p:spPr>
            <a:xfrm>
              <a:off x="7452720" y="2381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45DAB-AE14-4F18-9851-862874950376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40000" y="417600"/>
            <a:ext cx="374472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Current Statu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560" y="1773360"/>
            <a:ext cx="878508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Basic prototypes 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completed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Data-cube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 building at clinical site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Special Interest Group (SIG) 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recruitmen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Legal ethical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 framework and </a:t>
            </a: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exploitation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 strategy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21231-F169-4B88-93AA-9968E1C1C1BD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L2Slogo900x300with800dpi"/>
          <p:cNvPicPr/>
          <p:nvPr/>
        </p:nvPicPr>
        <p:blipFill>
          <a:blip r:embed="rId1"/>
          <a:stretch/>
        </p:blipFill>
        <p:spPr>
          <a:xfrm>
            <a:off x="2527200" y="1413000"/>
            <a:ext cx="3773520" cy="126180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4"/>
          <p:cNvSpPr/>
          <p:nvPr/>
        </p:nvSpPr>
        <p:spPr>
          <a:xfrm>
            <a:off x="2232000" y="3281400"/>
            <a:ext cx="4572000" cy="16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Book Antiqua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00"/>
                </a:solidFill>
                <a:latin typeface="Book Antiqua"/>
              </a:rPr>
              <a:t>Dr. Ratnesh Sahay, Dr. Ronan 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6600"/>
                </a:solidFill>
                <a:latin typeface="Book Antiqua"/>
              </a:rPr>
              <a:t>DERI, NU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00"/>
                </a:solidFill>
                <a:latin typeface="Book Antiqua"/>
              </a:rPr>
              <a:t>Tel: +353 91 495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00"/>
                </a:solidFill>
                <a:latin typeface="Book Antiqua"/>
              </a:rPr>
              <a:t>Fax: +353 91 495541 </a:t>
            </a:r>
            <a:br>
              <a:rPr sz="1800"/>
            </a:br>
            <a:r>
              <a:rPr b="0" i="1" lang="en-US" sz="1800" spc="-1" strike="noStrike">
                <a:solidFill>
                  <a:srgbClr val="006600"/>
                </a:solidFill>
                <a:latin typeface="Book Antiqua"/>
              </a:rPr>
              <a:t>email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firstname.lastname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Book Antiqua"/>
                <a:hlinkClick r:id="rId3"/>
              </a:rPr>
              <a:t>@deri.org</a:t>
            </a:r>
            <a:r>
              <a:rPr b="0" i="1" lang="en-GB" sz="1800" spc="-1" strike="noStrike">
                <a:solidFill>
                  <a:srgbClr val="0066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257640" y="2492280"/>
            <a:ext cx="51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linked2safety-project.eu/user/register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ontent Placeholder 2"/>
          <p:cNvSpPr/>
          <p:nvPr/>
        </p:nvSpPr>
        <p:spPr>
          <a:xfrm>
            <a:off x="1352520" y="249228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Join SIG @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3492360" y="5157720"/>
            <a:ext cx="2303640" cy="57492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Thank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B90DE-FD6D-4A65-A9B2-07D5D92801C9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360" y="43920"/>
            <a:ext cx="829152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46a"/>
                </a:solidFill>
                <a:latin typeface="Calibri"/>
              </a:rPr>
              <a:t>Partner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4" name="Espace réservé du pied de page 37"/>
          <p:cNvSpPr/>
          <p:nvPr/>
        </p:nvSpPr>
        <p:spPr>
          <a:xfrm>
            <a:off x="3059280" y="6308640"/>
            <a:ext cx="302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1290600"/>
            <a:ext cx="93614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INTRASOFT INTERNATIONAL SA, Belg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UNIVERSITY OF CYPRUS, Cypr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DERI-NATIONAL UNIVERSITY OF IRELAND, GALWAY, Ire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UNIVERSITY OF MANCHESTER, U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CENTRE FOR RESEARCH AND TECHNOLOGY HELLAS (CERTH), Gre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SIVECO Romania S.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UBITECH Research, Gre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159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15968"/>
                </a:solidFill>
                <a:latin typeface="Calibri"/>
              </a:rPr>
              <a:t>GOTTFRIED WILHELM LEIBNIZ UNIVERSITAET HANNOVER (LUH), Germ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84807"/>
                </a:solidFill>
                <a:latin typeface="Calibri"/>
              </a:rPr>
              <a:t>Cyprus Institute of Neurology and Genetics (CING), Gre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84807"/>
                </a:solidFill>
                <a:latin typeface="Calibri"/>
              </a:rPr>
              <a:t>ZEINCRO Hellas S.A., Gre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en-IE" sz="2200" spc="-1" strike="noStrike">
                <a:solidFill>
                  <a:srgbClr val="984807"/>
                </a:solidFill>
                <a:latin typeface="Calibri"/>
              </a:rPr>
              <a:t>HOSPICES CANTONAUX CHUV, Switzer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F7735-0A89-4A04-9D0A-4A7A3C64D729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34"/>
          <p:cNvSpPr/>
          <p:nvPr/>
        </p:nvSpPr>
        <p:spPr>
          <a:xfrm>
            <a:off x="3635280" y="4221000"/>
            <a:ext cx="289080" cy="216000"/>
          </a:xfrm>
          <a:prstGeom prst="ellipse">
            <a:avLst/>
          </a:prstGeom>
          <a:solidFill>
            <a:srgbClr val="12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9680" y="549000"/>
            <a:ext cx="3117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The Problem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9" name="Shape 33"/>
          <p:cNvSpPr/>
          <p:nvPr/>
        </p:nvSpPr>
        <p:spPr>
          <a:xfrm>
            <a:off x="611280" y="2781360"/>
            <a:ext cx="79930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urn number of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subjects (i.e., patient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have been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administe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drug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Insul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exhibit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BM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&gt; 25 and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Dyslipidem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IE" sz="1600" spc="-1" strike="noStrike">
                <a:solidFill>
                  <a:srgbClr val="7030a0"/>
                </a:solidFill>
                <a:latin typeface="Arial"/>
              </a:rPr>
              <a:t>Agoraphobia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adverse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4"/>
          <p:cNvGrpSpPr/>
          <p:nvPr/>
        </p:nvGrpSpPr>
        <p:grpSpPr>
          <a:xfrm>
            <a:off x="622440" y="3284640"/>
            <a:ext cx="1645920" cy="1296720"/>
            <a:chOff x="622440" y="3284640"/>
            <a:chExt cx="1645920" cy="1296720"/>
          </a:xfrm>
        </p:grpSpPr>
        <p:sp>
          <p:nvSpPr>
            <p:cNvPr id="101" name="Oval 5"/>
            <p:cNvSpPr/>
            <p:nvPr/>
          </p:nvSpPr>
          <p:spPr>
            <a:xfrm>
              <a:off x="622440" y="3284640"/>
              <a:ext cx="792000" cy="36036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"/>
            <p:cNvSpPr/>
            <p:nvPr/>
          </p:nvSpPr>
          <p:spPr>
            <a:xfrm>
              <a:off x="693720" y="4149720"/>
              <a:ext cx="157464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RxNor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Curved Connector 7"/>
            <p:cNvCxnSpPr>
              <a:stCxn id="101" idx="4"/>
              <a:endCxn id="102" idx="0"/>
            </p:cNvCxnSpPr>
            <p:nvPr/>
          </p:nvCxnSpPr>
          <p:spPr>
            <a:xfrm flipH="1" rot="16200000">
              <a:off x="996840" y="3666240"/>
              <a:ext cx="505440" cy="462600"/>
            </a:xfrm>
            <a:prstGeom prst="curvedConnector5">
              <a:avLst>
                <a:gd name="adj1" fmla="val 49964"/>
                <a:gd name="adj2" fmla="val 50000"/>
                <a:gd name="adj3" fmla="val 49964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04" name="Group 15"/>
          <p:cNvGrpSpPr/>
          <p:nvPr/>
        </p:nvGrpSpPr>
        <p:grpSpPr>
          <a:xfrm>
            <a:off x="2351160" y="3284640"/>
            <a:ext cx="1573200" cy="1296720"/>
            <a:chOff x="2351160" y="3284640"/>
            <a:chExt cx="1573200" cy="1296720"/>
          </a:xfrm>
        </p:grpSpPr>
        <p:sp>
          <p:nvSpPr>
            <p:cNvPr id="105" name="Oval 16"/>
            <p:cNvSpPr/>
            <p:nvPr/>
          </p:nvSpPr>
          <p:spPr>
            <a:xfrm>
              <a:off x="2404800" y="3284640"/>
              <a:ext cx="511200" cy="36036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7"/>
            <p:cNvSpPr/>
            <p:nvPr/>
          </p:nvSpPr>
          <p:spPr>
            <a:xfrm>
              <a:off x="2351160" y="4149720"/>
              <a:ext cx="157320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LOIN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Curved Connector 18"/>
            <p:cNvCxnSpPr>
              <a:stCxn id="105" idx="4"/>
              <a:endCxn id="106" idx="0"/>
            </p:cNvCxnSpPr>
            <p:nvPr/>
          </p:nvCxnSpPr>
          <p:spPr>
            <a:xfrm flipH="1" rot="16200000">
              <a:off x="2646360" y="3658320"/>
              <a:ext cx="505440" cy="478440"/>
            </a:xfrm>
            <a:prstGeom prst="curvedConnector5">
              <a:avLst>
                <a:gd name="adj1" fmla="val 49964"/>
                <a:gd name="adj2" fmla="val 50000"/>
                <a:gd name="adj3" fmla="val 49964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08" name="Group 21"/>
          <p:cNvGrpSpPr/>
          <p:nvPr/>
        </p:nvGrpSpPr>
        <p:grpSpPr>
          <a:xfrm>
            <a:off x="3635280" y="3284640"/>
            <a:ext cx="1657440" cy="1296720"/>
            <a:chOff x="3635280" y="3284640"/>
            <a:chExt cx="1657440" cy="1296720"/>
          </a:xfrm>
        </p:grpSpPr>
        <p:sp>
          <p:nvSpPr>
            <p:cNvPr id="109" name="Oval 22"/>
            <p:cNvSpPr/>
            <p:nvPr/>
          </p:nvSpPr>
          <p:spPr>
            <a:xfrm>
              <a:off x="3779640" y="3284640"/>
              <a:ext cx="1297080" cy="4172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3635280" y="4149720"/>
              <a:ext cx="165744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SNOM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Curved Connector 24"/>
            <p:cNvCxnSpPr>
              <a:stCxn id="109" idx="4"/>
              <a:endCxn id="110" idx="0"/>
            </p:cNvCxnSpPr>
            <p:nvPr/>
          </p:nvCxnSpPr>
          <p:spPr>
            <a:xfrm flipH="1" rot="16200000">
              <a:off x="4221000" y="3907080"/>
              <a:ext cx="448200" cy="370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12" name="Group 27"/>
          <p:cNvGrpSpPr/>
          <p:nvPr/>
        </p:nvGrpSpPr>
        <p:grpSpPr>
          <a:xfrm>
            <a:off x="5446800" y="3357720"/>
            <a:ext cx="1428840" cy="1150920"/>
            <a:chOff x="5446800" y="3357720"/>
            <a:chExt cx="1428840" cy="1150920"/>
          </a:xfrm>
        </p:grpSpPr>
        <p:sp>
          <p:nvSpPr>
            <p:cNvPr id="113" name="Oval 28"/>
            <p:cNvSpPr/>
            <p:nvPr/>
          </p:nvSpPr>
          <p:spPr>
            <a:xfrm>
              <a:off x="5446800" y="3357720"/>
              <a:ext cx="1357560" cy="36036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9"/>
            <p:cNvSpPr/>
            <p:nvPr/>
          </p:nvSpPr>
          <p:spPr>
            <a:xfrm>
              <a:off x="5591160" y="4077000"/>
              <a:ext cx="128448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DSM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Curved Connector 30"/>
            <p:cNvCxnSpPr>
              <a:stCxn id="113" idx="4"/>
              <a:endCxn id="114" idx="0"/>
            </p:cNvCxnSpPr>
            <p:nvPr/>
          </p:nvCxnSpPr>
          <p:spPr>
            <a:xfrm flipH="1" rot="16200000">
              <a:off x="5998320" y="3843360"/>
              <a:ext cx="358920" cy="10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16" name="Group 67"/>
          <p:cNvGrpSpPr/>
          <p:nvPr/>
        </p:nvGrpSpPr>
        <p:grpSpPr>
          <a:xfrm>
            <a:off x="835200" y="1916280"/>
            <a:ext cx="4168440" cy="1368360"/>
            <a:chOff x="835200" y="1916280"/>
            <a:chExt cx="4168440" cy="1368360"/>
          </a:xfrm>
        </p:grpSpPr>
        <p:grpSp>
          <p:nvGrpSpPr>
            <p:cNvPr id="117" name="Group 66"/>
            <p:cNvGrpSpPr/>
            <p:nvPr/>
          </p:nvGrpSpPr>
          <p:grpSpPr>
            <a:xfrm>
              <a:off x="835200" y="1916280"/>
              <a:ext cx="4168440" cy="1368360"/>
              <a:chOff x="835200" y="1916280"/>
              <a:chExt cx="4168440" cy="1368360"/>
            </a:xfrm>
          </p:grpSpPr>
          <p:sp>
            <p:nvSpPr>
              <p:cNvPr id="118" name="Oval 42"/>
              <p:cNvSpPr/>
              <p:nvPr/>
            </p:nvSpPr>
            <p:spPr>
              <a:xfrm rot="10800000">
                <a:off x="2339280" y="2881440"/>
                <a:ext cx="2437200" cy="403200"/>
              </a:xfrm>
              <a:prstGeom prst="ellipse">
                <a:avLst/>
              </a:prstGeom>
              <a:noFill/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43"/>
              <p:cNvSpPr/>
              <p:nvPr/>
            </p:nvSpPr>
            <p:spPr>
              <a:xfrm>
                <a:off x="835200" y="1916280"/>
                <a:ext cx="4168440" cy="432000"/>
              </a:xfrm>
              <a:prstGeom prst="ellipse">
                <a:avLst/>
              </a:prstGeom>
              <a:noFill/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400" spc="-1" strike="noStrike">
                    <a:solidFill>
                      <a:srgbClr val="c00000"/>
                    </a:solidFill>
                    <a:latin typeface="Lucida Sans"/>
                  </a:rPr>
                  <a:t>Legal  and Ethical Regula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0" name="Curved Connector 44"/>
            <p:cNvCxnSpPr>
              <a:stCxn id="118" idx="4"/>
              <a:endCxn id="119" idx="4"/>
            </p:cNvCxnSpPr>
            <p:nvPr/>
          </p:nvCxnSpPr>
          <p:spPr>
            <a:xfrm flipV="1" rot="16200000">
              <a:off x="2971800" y="2294640"/>
              <a:ext cx="533880" cy="639360"/>
            </a:xfrm>
            <a:prstGeom prst="curvedConnector5">
              <a:avLst>
                <a:gd name="adj1" fmla="val 50000"/>
                <a:gd name="adj2" fmla="val 49971"/>
                <a:gd name="adj3" fmla="val 50000"/>
              </a:avLst>
            </a:prstGeom>
            <a:ln w="9360">
              <a:solidFill>
                <a:srgbClr val="c0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21" name="Group 65"/>
          <p:cNvGrpSpPr/>
          <p:nvPr/>
        </p:nvGrpSpPr>
        <p:grpSpPr>
          <a:xfrm>
            <a:off x="6110280" y="1887480"/>
            <a:ext cx="2278080" cy="1397160"/>
            <a:chOff x="6110280" y="1887480"/>
            <a:chExt cx="2278080" cy="1397160"/>
          </a:xfrm>
        </p:grpSpPr>
        <p:sp>
          <p:nvSpPr>
            <p:cNvPr id="122" name="Oval 56"/>
            <p:cNvSpPr/>
            <p:nvPr/>
          </p:nvSpPr>
          <p:spPr>
            <a:xfrm>
              <a:off x="6311880" y="2853000"/>
              <a:ext cx="135720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7"/>
            <p:cNvSpPr/>
            <p:nvPr/>
          </p:nvSpPr>
          <p:spPr>
            <a:xfrm>
              <a:off x="6110280" y="1887480"/>
              <a:ext cx="2278080" cy="53352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HL7/openEH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Curved Connector 58"/>
            <p:cNvCxnSpPr>
              <a:stCxn id="123" idx="4"/>
              <a:endCxn id="122" idx="0"/>
            </p:cNvCxnSpPr>
            <p:nvPr/>
          </p:nvCxnSpPr>
          <p:spPr>
            <a:xfrm rot="5400000">
              <a:off x="6903360" y="2506320"/>
              <a:ext cx="432360" cy="261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125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314DD-7DC6-416B-BA84-4AA9E7667F35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pied de page 37"/>
          <p:cNvSpPr/>
          <p:nvPr/>
        </p:nvSpPr>
        <p:spPr>
          <a:xfrm>
            <a:off x="3059280" y="6308640"/>
            <a:ext cx="28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226800"/>
            <a:ext cx="7199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Showcases 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8" name="Espace réservé du pied de page 16"/>
          <p:cNvSpPr/>
          <p:nvPr/>
        </p:nvSpPr>
        <p:spPr>
          <a:xfrm>
            <a:off x="2987640" y="6356520"/>
            <a:ext cx="28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80640"/>
            <a:ext cx="8291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030a0"/>
                </a:solidFill>
                <a:latin typeface="Calibri"/>
              </a:rPr>
              <a:t>Phase III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linical Trial –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Subject Selection Criteria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the unbiased randomised selection of subjects in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phase III clinical trial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e.g. </a:t>
            </a:r>
            <a:r>
              <a:rPr b="1" i="1" lang="en-GB" sz="2200" spc="-1" strike="noStrike">
                <a:solidFill>
                  <a:srgbClr val="f79646"/>
                </a:solidFill>
                <a:latin typeface="Calibri"/>
              </a:rPr>
              <a:t>return subjects </a:t>
            </a: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with diabetesValue &gt; 4 and weight &gt;80 and hasCancer  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452520" indent="-452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030a0"/>
                </a:solidFill>
                <a:latin typeface="Calibri"/>
              </a:rPr>
              <a:t>Phase IV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Post Marketing Surveillance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the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pharmacovigilance</a:t>
            </a: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 of a drug after it receives permission to be sold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e.g. Test DrugX </a:t>
            </a:r>
            <a:r>
              <a:rPr b="1" i="1" lang="en-GB" sz="2200" spc="-1" strike="noStrike">
                <a:solidFill>
                  <a:srgbClr val="f79646"/>
                </a:solidFill>
                <a:latin typeface="Calibri"/>
              </a:rPr>
              <a:t>association</a:t>
            </a: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 with headache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452520" indent="-452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030a0"/>
                </a:solidFill>
                <a:latin typeface="Calibri"/>
              </a:rPr>
              <a:t>Phase IV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Chemoinformatic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identification of relations between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molecular fragments </a:t>
            </a: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and specific adverse drug event categorie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e.g. Test </a:t>
            </a:r>
            <a:r>
              <a:rPr b="1" i="1" lang="en-GB" sz="2200" spc="-1" strike="noStrike">
                <a:solidFill>
                  <a:srgbClr val="f79646"/>
                </a:solidFill>
                <a:latin typeface="Calibri"/>
              </a:rPr>
              <a:t>chemicalFragmentX (of DrugX)</a:t>
            </a: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 with rash 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12000" y="630864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669FA-BBB3-4C78-BA0D-3CE61A0A23B8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4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Objective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560" y="1484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1800" indent="-444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Enable Patient Safety 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in clinical trial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anonymisation of clinical site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anonymisation of clinical data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901800" indent="-444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Build a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semantically-interlinked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 medical information space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recruit patients across European clinical data set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adverse event detection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901800" indent="-444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Support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effective </a:t>
            </a:r>
            <a:r>
              <a:rPr b="1" i="1" lang="en-GB" sz="2400" spc="-1" strike="noStrike">
                <a:solidFill>
                  <a:srgbClr val="f79646"/>
                </a:solidFill>
                <a:latin typeface="Calibri"/>
              </a:rPr>
              <a:t>organization </a:t>
            </a:r>
            <a:r>
              <a:rPr b="0" i="1" lang="en-GB" sz="2400" spc="-1" strike="noStrike">
                <a:solidFill>
                  <a:srgbClr val="00446a"/>
                </a:solidFill>
                <a:latin typeface="Calibri"/>
              </a:rPr>
              <a:t>and </a:t>
            </a:r>
            <a:r>
              <a:rPr b="1" i="1" lang="en-GB" sz="2400" spc="-1" strike="noStrike">
                <a:solidFill>
                  <a:srgbClr val="f79646"/>
                </a:solidFill>
                <a:latin typeface="Calibri"/>
              </a:rPr>
              <a:t>execution of clinical trials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embedding governance / legal / ethics in proces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3" name="Espace réservé du pied de pag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12000" y="630864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2BDD7-DB83-4FEE-80F8-4C8B3BCCB907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5920" y="274320"/>
            <a:ext cx="843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Safety First – Ethical &amp; Legal Aspect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Respec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patients’ anonymity</a:t>
            </a:r>
            <a:r>
              <a:rPr b="0" lang="en-GB" sz="2400" spc="-1" strike="noStrike">
                <a:solidFill>
                  <a:srgbClr val="f79646"/>
                </a:solidFill>
                <a:latin typeface="Calibri"/>
              </a:rPr>
              <a:t>,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data’s ownership </a:t>
            </a:r>
            <a:r>
              <a:rPr b="0" lang="en-GB" sz="2400" spc="-1" strike="noStrike">
                <a:solidFill>
                  <a:srgbClr val="f79646"/>
                </a:solidFill>
                <a:latin typeface="Calibri"/>
              </a:rPr>
              <a:t>and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privacy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Not possible to </a:t>
            </a: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transfer or copy patient data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rom the originating institutions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ll machines that hold patient data are need to </a:t>
            </a: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remain off-line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Clinical data will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not be identifiable 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and should not lead to the identification of a person’s identity (either directly or indirectly e.g.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back-tracing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Strictly adhere to </a:t>
            </a: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consent form </a:t>
            </a: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requirements and all ethical and legal issues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 (European and national)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74C27-EDB3-40DF-B34F-41B0276F9ECB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2360" y="260280"/>
            <a:ext cx="8856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Data </a:t>
            </a:r>
            <a:r>
              <a:rPr b="0" lang="en-GB" sz="4000" spc="-1" strike="noStrike">
                <a:solidFill>
                  <a:srgbClr val="00446a"/>
                </a:solidFill>
                <a:latin typeface="Calibri"/>
              </a:rPr>
              <a:t>Anonymisation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000" y="1197000"/>
            <a:ext cx="843588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Addresses legal and ethical issues by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46c0a"/>
                </a:solidFill>
                <a:latin typeface="Calibri"/>
              </a:rPr>
              <a:t>Closed-world 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room pre-processing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Usage of </a:t>
            </a:r>
            <a:r>
              <a:rPr b="1" lang="en-GB" sz="2400" spc="-1" strike="noStrike">
                <a:solidFill>
                  <a:srgbClr val="e46c0a"/>
                </a:solidFill>
                <a:latin typeface="Calibri"/>
              </a:rPr>
              <a:t>data-cube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ontent Placeholder 3" descr=""/>
          <p:cNvPicPr/>
          <p:nvPr/>
        </p:nvPicPr>
        <p:blipFill>
          <a:blip r:embed="rId1"/>
          <a:srcRect l="7369" t="8316" r="25151" b="16455"/>
          <a:stretch/>
        </p:blipFill>
        <p:spPr>
          <a:xfrm>
            <a:off x="4140360" y="2235240"/>
            <a:ext cx="4532040" cy="3579840"/>
          </a:xfrm>
          <a:prstGeom prst="rect">
            <a:avLst/>
          </a:prstGeom>
          <a:ln w="0">
            <a:noFill/>
          </a:ln>
        </p:spPr>
      </p:pic>
      <p:sp>
        <p:nvSpPr>
          <p:cNvPr id="143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243A0-A4DD-40B2-82B8-AC0A04D515CD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88520"/>
            <a:ext cx="73440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Is data anonymised enough ?  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324000" y="162864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6 year old widow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Table 9" descr=""/>
          <p:cNvPicPr/>
          <p:nvPr/>
        </p:nvPicPr>
        <p:blipFill>
          <a:blip r:embed="rId1"/>
          <a:stretch/>
        </p:blipFill>
        <p:spPr>
          <a:xfrm>
            <a:off x="1365120" y="2236680"/>
            <a:ext cx="6340680" cy="267012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C4385-4754-42C0-92F6-CD7EAFCB34BB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6"/>
          <p:cNvSpPr/>
          <p:nvPr/>
        </p:nvSpPr>
        <p:spPr>
          <a:xfrm>
            <a:off x="272880" y="1773360"/>
            <a:ext cx="890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6 year old widow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Table 9" descr=""/>
          <p:cNvPicPr/>
          <p:nvPr/>
        </p:nvPicPr>
        <p:blipFill>
          <a:blip r:embed="rId1"/>
          <a:stretch/>
        </p:blipFill>
        <p:spPr>
          <a:xfrm>
            <a:off x="1725480" y="2530440"/>
            <a:ext cx="5718240" cy="2664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640" y="344160"/>
            <a:ext cx="73436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Is data anonymised enough ?  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812000" y="630864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10305-7BA8-4615-BEDE-78D336D30102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1:58:06Z</dcterms:created>
  <dc:creator>Geert Thienpont</dc:creator>
  <dc:description/>
  <cp:keywords>Template</cp:keywords>
  <dc:language>en-US</dc:language>
  <cp:lastModifiedBy>Ratnesh Sahay</cp:lastModifiedBy>
  <dcterms:modified xsi:type="dcterms:W3CDTF">2013-01-22T11:17:44Z</dcterms:modified>
  <cp:revision>227</cp:revision>
  <dc:subject>Electronic Health Records for Clinical Research</dc:subject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A8F06BE5DF5F747A022BC8322DD419B001FEF3DC2CF7D1144A5A06A8BA1455B4F</vt:lpwstr>
  </property>
  <property fmtid="{D5CDD505-2E9C-101B-9397-08002B2CF9AE}" pid="3" name="WPNo">
    <vt:lpwstr>General (HP)</vt:lpwstr>
  </property>
  <property fmtid="{D5CDD505-2E9C-101B-9397-08002B2CF9AE}" pid="4" name="ehr4crDelNo">
    <vt:lpwstr>None</vt:lpwstr>
  </property>
  <property fmtid="{D5CDD505-2E9C-101B-9397-08002B2CF9AE}" pid="5" name="ehr4crDocType">
    <vt:lpwstr>Other</vt:lpwstr>
  </property>
  <property fmtid="{D5CDD505-2E9C-101B-9397-08002B2CF9AE}" pid="6" name="ehr4crPartner">
    <vt:lpwstr>n.a.</vt:lpwstr>
  </property>
  <property fmtid="{D5CDD505-2E9C-101B-9397-08002B2CF9AE}" pid="7" name="ehr4crTask">
    <vt:lpwstr>none</vt:lpwstr>
  </property>
</Properties>
</file>